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078E-FB46-42D5-A60D-BE81BFC7A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116600"/>
            <a:ext cx="8004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A337-58AD-41B0-AD5E-350615DFF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3992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EF06-84AA-400E-9071-C0496FB30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040" y="190512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11660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11660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040" y="411660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B19B-4FBB-4247-8BE0-937A449A7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B8B1-BBEC-4B83-87D4-1713A8005D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800424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92DBF-4B34-4E21-8604-A72201B7FC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D763F-0AA8-4B74-BDEC-AE298B9D2F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CCFF-1E72-49F4-B516-2B3B666F53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D85A0-939B-45FE-BC4A-793124753B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243000"/>
            <a:ext cx="83818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72046-B475-4B04-89E6-BD199AFB91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ED46-0A0F-414A-9A5C-2420E7262A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800424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E548-A2ED-40E1-90D4-3D6FEFDBC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992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A8F18-CD9B-4450-AEAB-4C6FDBB8E1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8004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75CD7-32FD-4F71-A17B-5DB7CFABF3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116600"/>
            <a:ext cx="8004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01B34-29C9-44F7-9BFA-A7B2EA0FF6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992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F67EF-49C6-4B9E-AF94-5343A640FD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040" y="190512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11660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11660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040" y="411660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D8F49-FC01-4D07-978F-F300B3F0EA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7E75-AD44-4783-A66A-A6BF1BCCA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65EA-3A0D-4EC7-B8FF-D738BC267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997F-313E-454A-8185-12F8C1765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43000"/>
            <a:ext cx="83818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C87D-69A8-4415-A21E-212C55239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DC62-5E9B-4FC2-B49E-41C864E35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3992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DF68-539B-4EB1-9A65-57BBBE059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8004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F8C65-41DC-457B-80B8-99746E47A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318960" y="1828800"/>
            <a:ext cx="8821800" cy="5025960"/>
            <a:chOff x="318960" y="1828800"/>
            <a:chExt cx="8821800" cy="5025960"/>
          </a:xfrm>
        </p:grpSpPr>
        <p:sp>
          <p:nvSpPr>
            <p:cNvPr id="1" name="AutoShape 2"/>
            <p:cNvSpPr/>
            <p:nvPr/>
          </p:nvSpPr>
          <p:spPr>
            <a:xfrm>
              <a:off x="838080" y="4618080"/>
              <a:ext cx="8302680" cy="2236680"/>
            </a:xfrm>
            <a:custGeom>
              <a:avLst/>
              <a:gdLst>
                <a:gd name="textAreaLeft" fmla="*/ 0 w 8302680"/>
                <a:gd name="textAreaRight" fmla="*/ 8303040 w 83026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333360" y="1828800"/>
              <a:ext cx="8807400" cy="5025960"/>
            </a:xfrm>
            <a:custGeom>
              <a:avLst/>
              <a:gdLst>
                <a:gd name="textAreaLeft" fmla="*/ 0 w 8807400"/>
                <a:gd name="textAreaRight" fmla="*/ 8807760 w 8807400"/>
                <a:gd name="textAreaTop" fmla="*/ 0 h 5025960"/>
                <a:gd name="textAreaBottom" fmla="*/ 5026320 h 502596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838080" y="4654440"/>
              <a:ext cx="8302680" cy="2200320"/>
            </a:xfrm>
            <a:custGeom>
              <a:avLst/>
              <a:gdLst>
                <a:gd name="textAreaLeft" fmla="*/ 0 w 8302680"/>
                <a:gd name="textAreaRight" fmla="*/ 8303040 w 8302680"/>
                <a:gd name="textAreaTop" fmla="*/ 0 h 2200320"/>
                <a:gd name="textAreaBottom" fmla="*/ 2200680 h 22003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838080" y="1828800"/>
              <a:ext cx="7310520" cy="42840"/>
            </a:xfrm>
            <a:custGeom>
              <a:avLst/>
              <a:gdLst>
                <a:gd name="textAreaLeft" fmla="*/ 0 w 7310520"/>
                <a:gd name="textAreaRight" fmla="*/ 7310880 w 73105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4e02"/>
                </a:gs>
                <a:gs pos="100000">
                  <a:srgbClr val="bb5f03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838080" y="1828800"/>
              <a:ext cx="42840" cy="2830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830680"/>
                <a:gd name="textAreaBottom" fmla="*/ 2831040 h 283068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372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836640" y="4610160"/>
              <a:ext cx="42840" cy="2244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44600"/>
                <a:gd name="textAreaBottom" fmla="*/ 2244600 h 224460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372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318960" y="4610160"/>
              <a:ext cx="4567320" cy="42840"/>
            </a:xfrm>
            <a:custGeom>
              <a:avLst/>
              <a:gdLst>
                <a:gd name="textAreaLeft" fmla="*/ 0 w 4567320"/>
                <a:gd name="textAreaRight" fmla="*/ 4567680 w 45673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4e02"/>
                </a:gs>
                <a:gs pos="100000">
                  <a:srgbClr val="bb5f03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318960" y="4610160"/>
              <a:ext cx="44640" cy="22446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244600"/>
                <a:gd name="textAreaBottom" fmla="*/ 2244600 h 224460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372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Text Box 10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sldNum" idx="1"/>
          </p:nvPr>
        </p:nvSpPr>
        <p:spPr>
          <a:xfrm>
            <a:off x="6936840" y="6245280"/>
            <a:ext cx="1899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767BF-F837-4E04-9980-BBF9BEBE7E35}" type="slidenum">
              <a:rPr b="0" lang="pl-P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838080" y="1905120"/>
            <a:ext cx="80042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318960" y="1752480"/>
            <a:ext cx="8821800" cy="5126040"/>
            <a:chOff x="318960" y="1752480"/>
            <a:chExt cx="8821800" cy="5126040"/>
          </a:xfrm>
        </p:grpSpPr>
        <p:sp>
          <p:nvSpPr>
            <p:cNvPr id="51" name="AutoShape 2"/>
            <p:cNvSpPr/>
            <p:nvPr/>
          </p:nvSpPr>
          <p:spPr>
            <a:xfrm>
              <a:off x="333360" y="1752480"/>
              <a:ext cx="8807400" cy="5102280"/>
            </a:xfrm>
            <a:custGeom>
              <a:avLst/>
              <a:gdLst>
                <a:gd name="textAreaLeft" fmla="*/ 0 w 8807400"/>
                <a:gd name="textAreaRight" fmla="*/ 8807760 w 8807400"/>
                <a:gd name="textAreaTop" fmla="*/ 0 h 5102280"/>
                <a:gd name="textAreaBottom" fmla="*/ 5102280 h 510228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AutoShape 3"/>
            <p:cNvSpPr/>
            <p:nvPr/>
          </p:nvSpPr>
          <p:spPr>
            <a:xfrm>
              <a:off x="838080" y="3809880"/>
              <a:ext cx="8302680" cy="3044880"/>
            </a:xfrm>
            <a:custGeom>
              <a:avLst/>
              <a:gdLst>
                <a:gd name="textAreaLeft" fmla="*/ 0 w 8302680"/>
                <a:gd name="textAreaRight" fmla="*/ 8303040 w 8302680"/>
                <a:gd name="textAreaTop" fmla="*/ 0 h 3044880"/>
                <a:gd name="textAreaBottom" fmla="*/ 3045240 h 304488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4"/>
            <p:cNvSpPr/>
            <p:nvPr/>
          </p:nvSpPr>
          <p:spPr>
            <a:xfrm>
              <a:off x="318960" y="3773520"/>
              <a:ext cx="5481720" cy="42840"/>
            </a:xfrm>
            <a:custGeom>
              <a:avLst/>
              <a:gdLst>
                <a:gd name="textAreaLeft" fmla="*/ 0 w 5481720"/>
                <a:gd name="textAreaRight" fmla="*/ 5482080 w 54817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4e02"/>
                </a:gs>
                <a:gs pos="100000">
                  <a:srgbClr val="bb5f03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"/>
            <p:cNvSpPr/>
            <p:nvPr/>
          </p:nvSpPr>
          <p:spPr>
            <a:xfrm>
              <a:off x="838080" y="1752480"/>
              <a:ext cx="7766280" cy="42840"/>
            </a:xfrm>
            <a:custGeom>
              <a:avLst/>
              <a:gdLst>
                <a:gd name="textAreaLeft" fmla="*/ 0 w 7766280"/>
                <a:gd name="textAreaRight" fmla="*/ 7766640 w 776628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4e02"/>
                </a:gs>
                <a:gs pos="100000">
                  <a:srgbClr val="bb5f03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AutoShape 6"/>
            <p:cNvSpPr/>
            <p:nvPr/>
          </p:nvSpPr>
          <p:spPr>
            <a:xfrm>
              <a:off x="318960" y="3773520"/>
              <a:ext cx="44640" cy="3105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105000"/>
                <a:gd name="textAreaBottom" fmla="*/ 3105360 h 310500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372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AutoShape 7"/>
            <p:cNvSpPr/>
            <p:nvPr/>
          </p:nvSpPr>
          <p:spPr>
            <a:xfrm>
              <a:off x="838080" y="1752480"/>
              <a:ext cx="42840" cy="5116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6680"/>
                <a:gd name="textAreaBottom" fmla="*/ 5117040 h 511668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372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80042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2"/>
          </p:nvPr>
        </p:nvSpPr>
        <p:spPr>
          <a:xfrm>
            <a:off x="6936840" y="6245280"/>
            <a:ext cx="1899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0848016-3309-4945-807B-501941FCE4FA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800" spc="-1" strike="noStrike">
                <a:solidFill>
                  <a:srgbClr val="feec94"/>
                </a:solidFill>
                <a:latin typeface="Arial Black"/>
              </a:rPr>
              <a:t>Znajdź właściwe rozwiązani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193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ogram profilaktyki palenia tytoniu dla uczniów starszych klas szkoły podstawowej  </a:t>
            </a:r>
            <a:br>
              <a:rPr sz="32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4114800"/>
            <a:ext cx="539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4267080"/>
            <a:ext cx="6458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Sekcja Profilaktyki Zdrowotne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owiatowa Stacj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Sanitarno – Epidemiologiczna  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w Torun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5334120" y="4038480"/>
            <a:ext cx="3200400" cy="23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Arial Black"/>
              </a:rPr>
              <a:t>Warsztat V</a:t>
            </a:r>
            <a:br>
              <a:rPr sz="4400"/>
            </a:br>
            <a:r>
              <a:rPr b="1" lang="pl-PL" sz="4400" spc="-1" strike="noStrike">
                <a:solidFill>
                  <a:srgbClr val="feec94"/>
                </a:solidFill>
                <a:latin typeface="Arial Black"/>
              </a:rPr>
              <a:t>Uwierz w sieb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304920" y="1197000"/>
            <a:ext cx="845820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just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zmocnienie poczucia własnej wartości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just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zbudzenie pozytywnego myślenia o sobi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just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ształcenie ważnych umiejętności w kontaktach z ludź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3419640" y="4076640"/>
            <a:ext cx="237636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457200" y="-182520"/>
            <a:ext cx="8385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800"/>
            </a:br>
            <a:r>
              <a:rPr b="0" i="1" lang="pl-PL" sz="4800" spc="-1" strike="noStrike">
                <a:solidFill>
                  <a:srgbClr val="ffff99"/>
                </a:solidFill>
                <a:latin typeface="Arial Black"/>
              </a:rPr>
              <a:t>Dziękuję za uwagę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2971800" y="1752480"/>
            <a:ext cx="3336840" cy="4340520"/>
            <a:chOff x="2971800" y="1752480"/>
            <a:chExt cx="3336840" cy="4340520"/>
          </a:xfrm>
        </p:grpSpPr>
        <p:pic>
          <p:nvPicPr>
            <p:cNvPr id="130" name="Picture 3" descr=""/>
            <p:cNvPicPr/>
            <p:nvPr/>
          </p:nvPicPr>
          <p:blipFill>
            <a:blip r:embed="rId1"/>
            <a:stretch/>
          </p:blipFill>
          <p:spPr>
            <a:xfrm>
              <a:off x="2971800" y="1752480"/>
              <a:ext cx="3336840" cy="434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4"/>
            <p:cNvSpPr/>
            <p:nvPr/>
          </p:nvSpPr>
          <p:spPr>
            <a:xfrm>
              <a:off x="2971800" y="1752480"/>
              <a:ext cx="3336840" cy="43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0" y="-747720"/>
            <a:ext cx="8604360" cy="76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just">
              <a:spcBef>
                <a:spcPts val="799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spcBef>
                <a:spcPts val="799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100000"/>
              </a:lnSpc>
              <a:spcBef>
                <a:spcPts val="700"/>
              </a:spcBef>
              <a:buClr>
                <a:srgbClr val="b76a03"/>
              </a:buClr>
              <a:buFont typeface="Arial"/>
              <a:buChar char="•"/>
              <a:tabLst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ogram </a:t>
            </a:r>
            <a:r>
              <a:rPr b="0" i="1" lang="pl-PL" sz="3200" spc="-1" strike="noStrike">
                <a:solidFill>
                  <a:srgbClr val="feec94"/>
                </a:solidFill>
                <a:latin typeface="Arial"/>
              </a:rPr>
              <a:t>„Znajdź właściwe rozwiązanie”</a:t>
            </a:r>
            <a:r>
              <a:rPr b="0" lang="pl-PL" sz="3200" spc="-1" strike="noStrike">
                <a:solidFill>
                  <a:srgbClr val="feec94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tanowi 3 ogniwo w cyklu programów antytytoniowych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100000"/>
              </a:lnSpc>
              <a:spcBef>
                <a:spcPts val="700"/>
              </a:spcBef>
              <a:buClr>
                <a:srgbClr val="b76a03"/>
              </a:buClr>
              <a:buFont typeface="Arial"/>
              <a:buChar char="•"/>
              <a:tabLst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adresowany jest do uczniów starszych klas szkoły podstawowej– w tym okresie gwałtownie wzrasta liczba dzieci 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i młodzieży próbujących po raz pierwszych zapalić papieros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100000"/>
              </a:lnSpc>
              <a:spcBef>
                <a:spcPts val="700"/>
              </a:spcBef>
              <a:buClr>
                <a:srgbClr val="b76a03"/>
              </a:buClr>
              <a:buFont typeface="Arial"/>
              <a:buChar char="•"/>
              <a:tabLst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koncentrowany głównie na psychospołecznych mechanizmach kształtujących postawy i zachow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spcBef>
                <a:spcPts val="799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spcBef>
                <a:spcPts val="799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spcBef>
                <a:spcPts val="799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eec94"/>
                </a:solidFill>
                <a:latin typeface="Arial Black"/>
              </a:rPr>
              <a:t>Cel główny progra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901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Zapobieganie paleniu tytoniu wśród uczniów starszych klas szkół podstawowy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048200" cy="23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533520" y="189000"/>
            <a:ext cx="838512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Cele szczegółowe programu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79280" y="1268280"/>
            <a:ext cx="856944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większenie wiedzy w zakresie szkodliwości palenia tytoni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ształtowanie umiejętności dbania 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 zdrowie własne i swoich blisk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ształtowanie postaw asertywnych związanych z unikaniem biernego 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i czynnego pal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859280" y="4508640"/>
            <a:ext cx="25192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Arial Black"/>
              </a:rPr>
              <a:t>Struktura progra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82880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5 zajęć warsztatowy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oznajmy się bliż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Laboratorium ciał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aucz się mówić „ni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najdź właściwe rozwiąza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wierz w sieb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476280"/>
            <a:ext cx="83851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Warsztat I </a:t>
            </a:r>
            <a:br>
              <a:rPr sz="4000"/>
            </a:b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Poznajmy się bliżej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457200" y="2492280"/>
            <a:ext cx="800748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Integracja gru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yróżnienie lideró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zasadnienie i wzmocnienie postaw zobowiązujących do niepal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6300720" y="4653000"/>
            <a:ext cx="208908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404640"/>
            <a:ext cx="83851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Arial Black"/>
              </a:rPr>
              <a:t>Warsztat II </a:t>
            </a:r>
            <a:br>
              <a:rPr sz="4400"/>
            </a:br>
            <a:r>
              <a:rPr b="1" lang="pl-PL" sz="4400" spc="-1" strike="noStrike">
                <a:solidFill>
                  <a:srgbClr val="feec94"/>
                </a:solidFill>
                <a:latin typeface="Arial Black"/>
              </a:rPr>
              <a:t>Laboratorium ciał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04920" y="2205000"/>
            <a:ext cx="854064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skazanie na doskonałe funkcjonowanie ludzkiego organizmu oraz na jego potrzeby,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a przede wszystkim konieczność odpowiedniego odżywiania się i czystego powietrz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788000" y="4292640"/>
            <a:ext cx="28796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57200" y="0"/>
            <a:ext cx="83851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Warsztat III </a:t>
            </a:r>
            <a:br>
              <a:rPr sz="4000"/>
            </a:b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Naucz się mówić „ni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228600" y="1557360"/>
            <a:ext cx="86169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zekazanie podstawowych wiadomości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t. zachowań stanowczyc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czenie się rozpoznawania swoich zachowań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świadomienie mechanizmu nacisku grupowego i uczenie się mówienia „ni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2916360" y="4581360"/>
            <a:ext cx="2952720" cy="20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333360"/>
            <a:ext cx="83851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Warsztat IV</a:t>
            </a:r>
            <a:br>
              <a:rPr sz="4000"/>
            </a:b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Znajdź właściwe rozwiązani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228600" y="1628640"/>
            <a:ext cx="838836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rozpoznawanie emocji przeżywanych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 sytuacjach trudnyc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świadomienie mechanizmu konfliktu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rozwijanie umiejętności radzenia sobie 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 problem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5940360" y="42926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OZ</dc:creator>
  <dc:description/>
  <dc:language>en-US</dc:language>
  <cp:lastModifiedBy>PSSE Toruń - Patrycja Krumpolc</cp:lastModifiedBy>
  <dcterms:modified xsi:type="dcterms:W3CDTF">2024-11-21T12:35:18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